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32.gif" ContentType="image/gi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20.gif" ContentType="image/gif"/>
  <Override PartName="/ppt/media/image13.png" ContentType="image/png"/>
  <Override PartName="/ppt/media/image16.png" ContentType="image/png"/>
  <Override PartName="/ppt/media/image1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17.wmf" ContentType="image/x-wmf"/>
  <Override PartName="/ppt/media/image11.png" ContentType="image/png"/>
  <Override PartName="/ppt/media/image14.png" ContentType="image/png"/>
  <Override PartName="/ppt/media/image34.wmf" ContentType="image/x-wmf"/>
  <Override PartName="/ppt/media/image38.gif" ContentType="image/gi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gif" ContentType="image/gif"/>
  <Override PartName="/ppt/media/applause.wav" ContentType="audio/x-wav"/>
  <Override PartName="/ppt/media/image5.png" ContentType="image/png"/>
  <Override PartName="/ppt/media/image8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drumroll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8CA5-C2B5-45A8-A60A-E88CCD435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3.jpeg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3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9640" y="836640"/>
            <a:ext cx="7775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ение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ни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обей с одинаковым знаменателем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084720" y="1197000"/>
            <a:ext cx="254484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5516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Учитель Барыше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03640" y="260280"/>
            <a:ext cx="68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06" name="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2"/>
          <a:srcRect l="19923" t="45140" r="71959" b="49614"/>
          <a:stretch/>
        </p:blipFill>
        <p:spPr>
          <a:xfrm>
            <a:off x="2124000" y="3860640"/>
            <a:ext cx="1214640" cy="5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708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7800">
            <a:off x="2411280" y="2562480"/>
            <a:ext cx="56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0,5,12,10,6,3,1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 выбери те, при которых дроби будут 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357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=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393372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19728" t="39528" r="71405" b="54929"/>
          <a:stretch/>
        </p:blipFill>
        <p:spPr>
          <a:xfrm>
            <a:off x="2124000" y="573408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31040" y="4292640"/>
            <a:ext cx="1812960" cy="23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00720" y="5084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805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342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3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19923" t="38588" r="71959" b="54851"/>
          <a:stretch/>
        </p:blipFill>
        <p:spPr>
          <a:xfrm>
            <a:off x="2124000" y="30686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364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rcRect l="19728" t="33273" r="71405" b="60476"/>
          <a:stretch/>
        </p:blipFill>
        <p:spPr>
          <a:xfrm>
            <a:off x="2124000" y="4941720"/>
            <a:ext cx="1224000" cy="6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08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5084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580536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805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3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5; 9; 3; 1; 2; 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выберите те, при которых дроби будут не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11126880" cy="68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12688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24000" y="2060640"/>
            <a:ext cx="5327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ложение и вычитание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 рав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2280" y="15573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74" name="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79" name="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83" name="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190" name="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195" name="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199" name="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04" name="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10" name="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222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2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24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rot="4365000">
            <a:off x="163440" y="853920"/>
            <a:ext cx="2119320" cy="1509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87640" y="549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надо знать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44640"/>
            <a:ext cx="743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3141440" y="4148640"/>
            <a:ext cx="182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 вычитании дробей с оди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371628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732720" y="4869000"/>
            <a:ext cx="4330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4869000"/>
            <a:ext cx="43344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9728" t="28341" r="16032" b="58857"/>
          <a:stretch/>
        </p:blipFill>
        <p:spPr>
          <a:xfrm>
            <a:off x="250920" y="765000"/>
            <a:ext cx="864216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20477" t="40149" r="65813" b="26682"/>
          <a:stretch/>
        </p:blipFill>
        <p:spPr>
          <a:xfrm>
            <a:off x="250920" y="2205000"/>
            <a:ext cx="1944720" cy="352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3528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21942" t="42122" r="72886" b="50002"/>
          <a:stretch/>
        </p:blipFill>
        <p:spPr>
          <a:xfrm>
            <a:off x="2340000" y="2205000"/>
            <a:ext cx="62856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31005" t="43102" r="64569" b="49806"/>
          <a:stretch/>
        </p:blipFill>
        <p:spPr>
          <a:xfrm>
            <a:off x="2268360" y="285264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35970" t="43013" r="59607" b="50002"/>
          <a:stretch/>
        </p:blipFill>
        <p:spPr>
          <a:xfrm>
            <a:off x="2340000" y="3357720"/>
            <a:ext cx="485640" cy="57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41146" t="42122" r="55163" b="49830"/>
          <a:stretch/>
        </p:blipFill>
        <p:spPr>
          <a:xfrm>
            <a:off x="2340000" y="393372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rcRect l="46517" t="42319" r="49791" b="50805"/>
          <a:stretch/>
        </p:blipFill>
        <p:spPr>
          <a:xfrm>
            <a:off x="2411280" y="4508640"/>
            <a:ext cx="43344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rcRect l="51305" t="42319" r="45753" b="49806"/>
          <a:stretch/>
        </p:blipFill>
        <p:spPr>
          <a:xfrm rot="201600">
            <a:off x="2340000" y="5084280"/>
            <a:ext cx="433440" cy="64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88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869000"/>
            <a:ext cx="5032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869000"/>
            <a:ext cx="43200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4581360"/>
            <a:ext cx="28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944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481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50680" y="4869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1880" y="486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9964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580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4720" y="1916280"/>
            <a:ext cx="244800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284720" y="3573000"/>
            <a:ext cx="345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22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00720" y="3716280"/>
                <a:ext cx="398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3716280"/>
                <a:ext cx="374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08720" y="3645000"/>
                <a:ext cx="423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56360" y="3645000"/>
                <a:ext cx="37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732720" y="3645000"/>
                <a:ext cx="372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308720" y="3573360"/>
                <a:ext cx="373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 flipV="1">
            <a:off x="6372000" y="2204640"/>
            <a:ext cx="115236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940360" y="2492280"/>
            <a:ext cx="93672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580000" y="278100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219640" y="2997000"/>
            <a:ext cx="5047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932360" y="3213000"/>
            <a:ext cx="28728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028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31707" t="25589" r="29901" b="24221"/>
          <a:stretch/>
        </p:blipFill>
        <p:spPr>
          <a:xfrm>
            <a:off x="3995640" y="1916280"/>
            <a:ext cx="3745080" cy="40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6300720" y="0"/>
            <a:ext cx="26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21208" t="36221" r="43346" b="39174"/>
          <a:stretch/>
        </p:blipFill>
        <p:spPr>
          <a:xfrm>
            <a:off x="1332000" y="1268280"/>
            <a:ext cx="5904000" cy="2664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62064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и уравнения и найди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9160" y="4654440"/>
            <a:ext cx="27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верь себ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701880" cy="4897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я из учеб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655640" cy="151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509880" y="3718080"/>
            <a:ext cx="8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>
            <a:lum contrast="96000"/>
          </a:blip>
          <a:srcRect l="21942" t="29320" r="43361" b="61810"/>
          <a:stretch/>
        </p:blipFill>
        <p:spPr>
          <a:xfrm>
            <a:off x="1116000" y="885960"/>
            <a:ext cx="8028000" cy="960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-585720" y="333360"/>
            <a:ext cx="87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овер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ение задачи № 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21208" t="38195" r="22673" b="53930"/>
          <a:stretch/>
        </p:blipFill>
        <p:spPr>
          <a:xfrm>
            <a:off x="971640" y="1916280"/>
            <a:ext cx="11090160" cy="865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12909" t="46272" r="13640" b="45858"/>
          <a:stretch/>
        </p:blipFill>
        <p:spPr>
          <a:xfrm>
            <a:off x="-324000" y="2852640"/>
            <a:ext cx="12169800" cy="100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rcRect l="14567" t="53930" r="15283" b="40173"/>
          <a:stretch/>
        </p:blipFill>
        <p:spPr>
          <a:xfrm>
            <a:off x="1403280" y="4149720"/>
            <a:ext cx="11593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329" t="22439" r="31544" b="28341"/>
          <a:stretch/>
        </p:blipFill>
        <p:spPr>
          <a:xfrm>
            <a:off x="1763640" y="1700280"/>
            <a:ext cx="489600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62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Психологический настрой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9079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вы научились сегодня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628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сложе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3429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вычита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060640"/>
            <a:ext cx="80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4076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23080" y="0"/>
            <a:ext cx="2089080" cy="220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948360" y="5157720"/>
            <a:ext cx="2195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47040" y="1264680"/>
            <a:ext cx="836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Домашнее задание:</a:t>
            </a:r>
            <a:r>
              <a:rPr b="1" i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Выучить правила сложения и вычитания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№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995; №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74600" y="1052640"/>
            <a:ext cx="11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 rot="520800">
            <a:off x="2195640" y="549360"/>
            <a:ext cx="439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62440" y="3284640"/>
            <a:ext cx="2449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2121" t="6117" r="9107" b="10214"/>
          <a:stretch/>
        </p:blipFill>
        <p:spPr>
          <a:xfrm>
            <a:off x="1403280" y="1844640"/>
            <a:ext cx="6553440" cy="2952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6000"/>
          </a:blip>
          <a:srcRect l="15543" t="12594" r="4630" b="7678"/>
          <a:stretch/>
        </p:blipFill>
        <p:spPr>
          <a:xfrm>
            <a:off x="826920" y="1773360"/>
            <a:ext cx="6840720" cy="273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668" t="7856" r="8338" b="4135"/>
          <a:stretch/>
        </p:blipFill>
        <p:spPr>
          <a:xfrm>
            <a:off x="611280" y="1557360"/>
            <a:ext cx="7345440" cy="32400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" t="0" r="0" b="0"/>
          <a:stretch/>
        </p:blipFill>
        <p:spPr>
          <a:xfrm>
            <a:off x="324000" y="5157720"/>
            <a:ext cx="684180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169" t="5750" r="6689" b="4143"/>
          <a:stretch/>
        </p:blipFill>
        <p:spPr>
          <a:xfrm>
            <a:off x="539640" y="1557360"/>
            <a:ext cx="7704360" cy="3384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3" name="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4" name="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3168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LAN_OS</cp:lastModifiedBy>
  <dcterms:modified xsi:type="dcterms:W3CDTF">2012-08-03T18:09:29Z</dcterms:modified>
  <cp:revision>117</cp:revision>
  <dc:subject/>
  <dc:title>Слайд 1</dc:title>
</cp:coreProperties>
</file>